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F26E-C6AB-498B-8DF5-8B6837EF4F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ехнология развития критического мышления на уроках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8B47-D2F5-4F94-B7C4-E020CA61B6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тратегия ЗХУ на уроке истории древн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» з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исторически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ботают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ходят археологические памя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существуют виды историческ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C554-E36B-4FFA-B94A-738F385B7B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Инсерт «Реализация смы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Условные знач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уже з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н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думал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есть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5C6B-FD61-4C4E-9C19-0AB4AF8BB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«Инсерт» на уроке истории в 7 класс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ма «Великие географические откры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последств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умб открыл Америку, но думал, что открыл новый путь в И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иста – заво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я – территория, потерявшая не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л, что Колумб открыл всю Америку, а он доплыл только до остро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осле Великих географических открытий упали цены на золото и выросли цены на вс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046F-54E9-44CF-9CC4-4EE9786364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ем «Фишбоун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Рыбная кост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1B1C-BF34-4622-8462-2DEB4F1FB4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боун на уроке истории в 6 клас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«Феодальная раздробленность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EFB5-6FFA-43F1-98AB-00066B552F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 одн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овом (обычно существительно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(два прилагательны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этой темы (три глагола или деепричастия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к 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чувства, эмоции (фраза из четырех слов)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су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темы одним словом (синоним те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E842-C66B-4004-9AB6-DF86D545FC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на уроке истории 9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в 1900-1917 г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арская, самодержав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юет, подавляет, сверга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поха мировой войны, революции, гражданской сму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виг в российск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3276-C287-4FD1-9D29-700FAD5E0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, осмысливать, использовать нуж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C665-147C-438F-9D7C-0484770609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на уроке ис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history-helpmy.blogspot.com/2010/04/blog-post_538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F9E9-D192-46FE-95B8-6D3B43754D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зобра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psychology.careeredublogs.com/files/2010/02/school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grafamania.net/uploads/posts/2008-08/1219611582_7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88.198.21.149/images/photoframes/2010/6/02/17/55/g2IP8mW0czgiqFNwe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C0FB-8442-4694-B352-CEFCEF6BFF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хнолог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8AAF-C808-4CF8-AB4B-7FF978E9B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кие цели и задачи ставит данная технолог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) Формирование нового стил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) Развитие аналитического, крит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F92C-2E5D-44FD-90DC-6F1F3C1E16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тие критического мышления приводит к следующим результа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мотивация учащихся к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я анализировать полученную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1CDB-2018-4DB5-AAAF-ECBE4DAD07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снова технологии – трехфазовая структура урока: вызов, осмысление, 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имеющихся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уждение интереса к получению новой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собственн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мыс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оотносят старые знания с нов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ышление, рождение нового з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нов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03C5-3D3F-4132-B19B-F6455961B9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стратегии технологии развития крит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665D-BF82-4FAB-A11C-9EAFE2D78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нятийное колес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2031-F4D6-4EF7-AEAF-680EF8304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Понятийное колесо на уроке обществознания в 8 классе. </a:t>
            </a:r>
            <a:br>
              <a:rPr sz="1200"/>
            </a:b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Тема «Что такое обществ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154-5E40-4826-BF98-D59B1D432E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ЗХ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AE92-AEF6-42F6-894A-5116A78E7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157-B5F4-415B-B1C7-6EA16357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17A-EBB8-4650-A8A5-6328D0BD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76F-4B21-4793-86CA-6D0F088E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3F3-2521-424C-A94C-16197FF3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59B1-7C82-49BB-AEAD-3EF053E7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B88A-EEA1-4142-B500-5C0E3AF8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B11B-F1B3-47FE-8A96-750A4C8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1B66-98DB-4092-9A1F-A2ECDE20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520E-6073-4242-BF44-CD1FBFCE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0D14-45ED-40BD-A080-78A849D0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E6A3-94CE-48A3-A7F4-5C79E7D8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A11-DAF6-4867-A538-5034F37C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986F-FDFE-4AEB-AFD5-F525D289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335F-73D0-4006-AA3D-FE03527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9EF6-8950-43C4-85D1-F9D8D326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0263-03F8-48E8-8469-CE327578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F911-ECFC-4DE7-84A2-65E25E8F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603-B77A-4D32-86A2-F4C6C20E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BB9-AE08-4C03-B95D-435D6C90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927-71A8-4273-B065-65DB8CB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055-9E90-4601-80FB-9B99C183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7C7-42BB-4147-8DC0-F401949B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5EB-5693-4D53-9069-4CA9217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9DC-4EE3-4862-877C-BD66C8D2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E12E-C126-474E-A15D-C673A97EDA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207E-4935-46EF-BED4-DB5C2497A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E2EF-C489-474C-9B72-8DA483D532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020-AB91-4835-812B-65A0545DC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84200" y="2011320"/>
            <a:ext cx="6448680" cy="18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Семкова Наталья Владимировна – учитель истории,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тегория,  МКОУ «СОШ №10» г. Нижняя Салда, Свердл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5453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28760" y="178596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3043080"/>
                <a:gridCol w="2443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8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то такие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то такое исторические исто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работают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находят археологические памя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ие существуют виды историческ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00040" y="2214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229600" cy="160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28760" y="1785960"/>
          <a:ext cx="8229600" cy="4054320"/>
        </p:xfrm>
        <a:graphic>
          <a:graphicData uri="http://schemas.openxmlformats.org/drawingml/2006/table">
            <a:tbl>
              <a:tblPr/>
              <a:tblGrid>
                <a:gridCol w="2071440"/>
                <a:gridCol w="615816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 открыл Америку, но думал, что открыл новый путь в Инд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киста – заво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ония – территория, потерявшая независ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мал, что Колумб открыл всю Америку, а он доплыл только до остро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после Великих географических открытий упали цены на золото и выросли цены на вс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 rot="1677000">
            <a:off x="2936520" y="2254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2858400">
            <a:off x="812520" y="2707920"/>
            <a:ext cx="2421000" cy="2268720"/>
          </a:xfrm>
          <a:prstGeom prst="rtTriangl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05200">
            <a:off x="2717640" y="4383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1300800">
            <a:off x="4024080" y="2389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464400">
            <a:off x="3927240" y="438156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43080" y="3714840"/>
            <a:ext cx="3929040" cy="43344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5400000">
            <a:off x="6510960" y="2823120"/>
            <a:ext cx="1809720" cy="225900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3634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4352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29284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400752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-103320" y="390600"/>
            <a:ext cx="8442360" cy="1346040"/>
          </a:xfrm>
          <a:prstGeom prst="rect">
            <a:avLst/>
          </a:prstGeom>
          <a:ln w="0">
            <a:noFill/>
          </a:ln>
        </p:spPr>
      </p:pic>
      <p:sp>
        <p:nvSpPr>
          <p:cNvPr id="138" name="Freeform 8"/>
          <p:cNvSpPr/>
          <p:nvPr/>
        </p:nvSpPr>
        <p:spPr>
          <a:xfrm>
            <a:off x="571680" y="3143160"/>
            <a:ext cx="2050920" cy="22147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571840" y="42148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/>
          <p:nvPr/>
        </p:nvCxnSpPr>
        <p:spPr>
          <a:xfrm flipH="1">
            <a:off x="2928600" y="3357360"/>
            <a:ext cx="714960" cy="86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12"/>
          <p:cNvCxnSpPr/>
          <p:nvPr/>
        </p:nvCxnSpPr>
        <p:spPr>
          <a:xfrm flipH="1">
            <a:off x="4143240" y="3428640"/>
            <a:ext cx="6433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12"/>
          <p:cNvCxnSpPr/>
          <p:nvPr/>
        </p:nvCxnSpPr>
        <p:spPr>
          <a:xfrm flipH="1">
            <a:off x="5285880" y="3357360"/>
            <a:ext cx="57240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4"/>
          <p:cNvCxnSpPr/>
          <p:nvPr/>
        </p:nvCxnSpPr>
        <p:spPr>
          <a:xfrm flipH="1" flipV="1">
            <a:off x="2999520" y="4285440"/>
            <a:ext cx="35820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4"/>
          <p:cNvCxnSpPr/>
          <p:nvPr/>
        </p:nvCxnSpPr>
        <p:spPr>
          <a:xfrm flipH="1" flipV="1">
            <a:off x="4071600" y="4214520"/>
            <a:ext cx="3578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4"/>
          <p:cNvCxnSpPr/>
          <p:nvPr/>
        </p:nvCxnSpPr>
        <p:spPr>
          <a:xfrm flipH="1" flipV="1">
            <a:off x="5214960" y="4286160"/>
            <a:ext cx="643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Прямоугольник 16"/>
          <p:cNvSpPr/>
          <p:nvPr/>
        </p:nvSpPr>
        <p:spPr>
          <a:xfrm>
            <a:off x="2071800" y="157176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4143240" y="1643040"/>
            <a:ext cx="128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5786280" y="1500120"/>
            <a:ext cx="150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2143080" y="485784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3857760" y="500076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5643720" y="52149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6516720" y="2928960"/>
            <a:ext cx="2198520" cy="24289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1900-1917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ская, самодержав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юет, подавляет, сверг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ха мировой войны, революции, гражданской см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виг в россий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на уроке ист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tory-helpmy.blogspot.com/2010/04/blog-post_538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28520" y="1785960"/>
            <a:ext cx="67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psychology.careeredublogs.com/files/2010/02/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88.198.21.149/images/photoframes/2010/6/02/17/55/g2IP8mW0czgiqFNwe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500040" y="4643280"/>
            <a:ext cx="142560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571680" y="28576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нового стил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аналитического,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тивация учащихся к образовательному проце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смы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500120" y="1494000"/>
            <a:ext cx="6235920" cy="288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8143920" cy="47926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500040" y="42696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26960" y="182520"/>
            <a:ext cx="8229600" cy="1835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"/>
          <p:cNvPicPr/>
          <p:nvPr/>
        </p:nvPicPr>
        <p:blipFill>
          <a:blip r:embed="rId2"/>
          <a:stretch/>
        </p:blipFill>
        <p:spPr>
          <a:xfrm>
            <a:off x="426960" y="1725480"/>
            <a:ext cx="8229600" cy="4699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55600"/>
            <a:ext cx="822960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28760" y="1785960"/>
          <a:ext cx="8229600" cy="3203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» у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LEGION</cp:lastModifiedBy>
  <dcterms:modified xsi:type="dcterms:W3CDTF">2015-01-26T13:57:58Z</dcterms:modified>
  <cp:revision>15</cp:revision>
  <dc:subject/>
  <dc:title>Слайд 1</dc:title>
</cp:coreProperties>
</file>